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wmf" ContentType="image/x-wmf"/>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7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2"/>
          <p:cNvSpPr>
            <a:spLocks noGrp="1"/>
          </p:cNvSpPr>
          <p:nvPr>
            <p:ph type="dt" idx="9"/>
          </p:nvPr>
        </p:nvSpPr>
        <p:spPr>
          <a:xfrm>
            <a:off x="388584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9"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0" name="PlaceHolder 5"/>
          <p:cNvSpPr>
            <a:spLocks noGrp="1"/>
          </p:cNvSpPr>
          <p:nvPr>
            <p:ph type="ftr" idx="10"/>
          </p:nvPr>
        </p:nvSpPr>
        <p:spPr>
          <a:xfrm>
            <a:off x="-360" y="8831160"/>
            <a:ext cx="2971800" cy="46512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6"/>
          <p:cNvSpPr>
            <a:spLocks noGrp="1"/>
          </p:cNvSpPr>
          <p:nvPr>
            <p:ph type="sldNum" idx="11"/>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C1EF-5A29-4907-A594-C220A7E739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C948-ACC9-4AEE-B962-EA88BA57E3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70E3-C196-4F53-AFB9-8C6AFDC1AE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04840" y="696960"/>
            <a:ext cx="4648320" cy="3486240"/>
          </a:xfrm>
          <a:prstGeom prst="rect">
            <a:avLst/>
          </a:prstGeom>
          <a:ln w="0">
            <a:noFill/>
          </a:ln>
        </p:spPr>
      </p:sp>
      <p:sp>
        <p:nvSpPr>
          <p:cNvPr id="20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B1AB-D842-458E-9F8A-9EF077F5DA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D1C661-23F4-4E3E-B03C-EA78C91DE8A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37BE74B-152D-4BEE-BABA-12FF27F89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7D91E80-F8CF-407C-B781-6057515D4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C3E99CF-F802-47E6-AD3F-C0148DCDE94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DF8A02D-A05E-4638-9FB4-A92FC9B8E4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73674B7-527C-4FFB-A3D5-323F7F1E18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8DA1836-5626-4E5B-BAE6-BFCFF3DA62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F8551B5-16DB-468A-BE8A-7BFD3A5739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D3DC926-3219-4A99-8ECB-8BC74E1430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E5DC240-3CA6-4367-8E10-AF58A6CF03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776625E-36EA-4983-B9CD-43C78FB654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AFE06E-0973-44CC-9388-0D879B787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A00476A-F572-4D36-90B7-F9AA739A86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8ABD39E-8330-4085-A646-A436F98BDB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EE3BDFC-1A5A-4EE4-BD08-77583C282B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B3780A6-1E05-4B84-8299-B8895B259B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33AA677-60F2-43FC-95A4-023CC998AD1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274AA-42A6-4160-A88A-1AA58CEC1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33637-BF5C-4585-A12C-C56533C18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EAAEE-8250-4F6B-835F-C1C9A0285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0F2A7-A6FB-4654-8578-467035C0F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CD2F8-D651-4115-90D0-A6CCC7A32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805993-6E1C-4ABC-BEC6-9A85BC40E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E0BA2-ED2C-4C11-BAB0-E107E9E20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788D7-C398-4A2F-AB04-CF08E2849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AE7D1-DB11-4833-97C9-0AA6BA404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FCF6A-CA9A-4887-AC61-FA1C97EF6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98BCB-B705-4422-A0C5-E04A7971E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ABEE36-5F78-4CF9-9D8D-CA4F6E2EC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8D3C0B-79AF-4F06-B3F1-B8572BC445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33F7FB3-F1BB-46BB-AC7E-83B17C7E686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2286E20-B3F8-4ED2-887B-C22686EFBC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BA7CD4F-67F8-4600-851C-8BF3A4B50F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9E2A160-A077-4952-81F0-34DE5ADF0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2F66531-635A-488A-B07C-0E29622EA4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79575D43-A2A2-4052-AE96-87A530F5FF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4E64D84-EBE2-404A-82AA-01FD7FE20E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9682A2B-2EFC-412D-A626-3964EDC1FA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FAAA3F8-CF1B-4262-B80C-EBA3B28A20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9E4ED13-F5A1-4BE9-B927-061367DBA7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4D0FEC0-9AF8-4A5C-819D-6E6B689B20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1861AE95-3986-4763-A166-93F1ABC5A2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47FA7411-95B4-4471-B033-512854D0726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2C4F118-0647-4398-BD6D-FDE240E0F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3101187-01ED-432C-AD56-42277E019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AEDAB02-87D2-4063-A6B4-CC195484D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06C4405-8439-423B-8D3B-B2ED09F13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2517F74-82D4-4DAA-B3A4-9D7BC20D739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Ercot Logo"/>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D1F57-F857-4C7F-9E34-687E544A9E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494"/>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Arial"/>
            </a:endParaRPr>
          </a:p>
        </p:txBody>
      </p:sp>
      <p:sp>
        <p:nvSpPr>
          <p:cNvPr id="5" name="Line 497"/>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2"/>
          <p:cNvGrpSpPr/>
          <p:nvPr/>
        </p:nvGrpSpPr>
        <p:grpSpPr>
          <a:xfrm>
            <a:off x="-3238560" y="0"/>
            <a:ext cx="11925360" cy="3809880"/>
            <a:chOff x="-3238560" y="0"/>
            <a:chExt cx="11925360" cy="3809880"/>
          </a:xfrm>
        </p:grpSpPr>
        <p:sp>
          <p:nvSpPr>
            <p:cNvPr id="43"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8" name="Picture 9" descr="Ercot Logo"/>
          <p:cNvPicPr/>
          <p:nvPr/>
        </p:nvPicPr>
        <p:blipFill>
          <a:blip r:embed="rId2"/>
          <a:stretch/>
        </p:blipFill>
        <p:spPr>
          <a:xfrm>
            <a:off x="7620120" y="228600"/>
            <a:ext cx="1295280" cy="696960"/>
          </a:xfrm>
          <a:prstGeom prst="rect">
            <a:avLst/>
          </a:prstGeom>
          <a:ln w="0">
            <a:noFill/>
          </a:ln>
        </p:spPr>
      </p:pic>
      <p:sp>
        <p:nvSpPr>
          <p:cNvPr id="49"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D140-9CEB-49C9-A624-232C9454D00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04E0-705D-4F7E-ACF3-4858F51D98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7" descr="Copy of Ercot Logo"/>
          <p:cNvPicPr/>
          <p:nvPr/>
        </p:nvPicPr>
        <p:blipFill>
          <a:blip r:embed="rId2"/>
          <a:stretch/>
        </p:blipFill>
        <p:spPr>
          <a:xfrm>
            <a:off x="7315200" y="76320"/>
            <a:ext cx="1752480" cy="941400"/>
          </a:xfrm>
          <a:prstGeom prst="rect">
            <a:avLst/>
          </a:prstGeom>
          <a:ln w="0">
            <a:noFill/>
          </a:ln>
        </p:spPr>
      </p:pic>
      <p:sp>
        <p:nvSpPr>
          <p:cNvPr id="92"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Arial"/>
            </a:endParaRPr>
          </a:p>
        </p:txBody>
      </p:sp>
      <p:sp>
        <p:nvSpPr>
          <p:cNvPr id="93"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3222720" y="304920"/>
            <a:ext cx="11909520" cy="4724280"/>
            <a:chOff x="-3222720" y="304920"/>
            <a:chExt cx="11909520" cy="4724280"/>
          </a:xfrm>
        </p:grpSpPr>
        <p:sp>
          <p:nvSpPr>
            <p:cNvPr id="131"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134" name="Picture 10" descr="Ercot Logo"/>
          <p:cNvPicPr/>
          <p:nvPr/>
        </p:nvPicPr>
        <p:blipFill>
          <a:blip r:embed="rId2"/>
          <a:stretch/>
        </p:blipFill>
        <p:spPr>
          <a:xfrm>
            <a:off x="7620120" y="228600"/>
            <a:ext cx="1295280" cy="696960"/>
          </a:xfrm>
          <a:prstGeom prst="rect">
            <a:avLst/>
          </a:prstGeom>
          <a:ln w="0">
            <a:noFill/>
          </a:ln>
        </p:spPr>
      </p:pic>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36"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EE34-4040-40E8-8A2D-AF528536F74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EB42-059B-4D60-9909-0FD48C6981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p:nvPr>
        </p:nvSpPr>
        <p:spPr>
          <a:xfrm>
            <a:off x="761760" y="1676520"/>
            <a:ext cx="7543800" cy="45720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WG Update Repor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nie Podraza</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Direct Energ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 Echols</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Onco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Vice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PS Meet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cember 07,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E8D6-5FA1-4F22-BCE6-E18EBE5D30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5" name="Picture 4" descr=""/>
          <p:cNvPicPr/>
          <p:nvPr/>
        </p:nvPicPr>
        <p:blipFill>
          <a:blip r:embed="rId1"/>
          <a:stretch/>
        </p:blipFill>
        <p:spPr>
          <a:xfrm>
            <a:off x="380880" y="2181240"/>
            <a:ext cx="8401320" cy="33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7815-5288-488F-AB60-5E1F94096D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3" descr="image002"/>
          <p:cNvPicPr/>
          <p:nvPr/>
        </p:nvPicPr>
        <p:blipFill>
          <a:blip r:embed="rId1"/>
          <a:stretch/>
        </p:blipFill>
        <p:spPr>
          <a:xfrm>
            <a:off x="309600" y="2352600"/>
            <a:ext cx="8529480" cy="2676600"/>
          </a:xfrm>
          <a:prstGeom prst="rect">
            <a:avLst/>
          </a:prstGeom>
          <a:ln w="0">
            <a:noFill/>
          </a:ln>
        </p:spPr>
      </p:pic>
      <p:sp>
        <p:nvSpPr>
          <p:cNvPr id="188" name="TextBox 4"/>
          <p:cNvSpPr/>
          <p:nvPr/>
        </p:nvSpPr>
        <p:spPr>
          <a:xfrm>
            <a:off x="914400" y="1447920"/>
            <a:ext cx="7238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PWG 2010 Goals – Feedback Welcom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86F7E-2EBE-4508-94E0-918BC33C2E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Rectangle 2"/>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nnual Validation 2010</a:t>
            </a:r>
            <a:endParaRPr b="0" lang="en-US" sz="2400" spc="-1" strike="noStrike">
              <a:solidFill>
                <a:srgbClr val="000000"/>
              </a:solidFill>
              <a:latin typeface="Arial"/>
            </a:endParaRPr>
          </a:p>
        </p:txBody>
      </p:sp>
      <p:sp>
        <p:nvSpPr>
          <p:cNvPr id="191" name="TextBox 5"/>
          <p:cNvSpPr/>
          <p:nvPr/>
        </p:nvSpPr>
        <p:spPr>
          <a:xfrm>
            <a:off x="457200" y="5943600"/>
            <a:ext cx="8001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6800 Business are currently indicated to have a provisioned Advanced Meter.</a:t>
            </a:r>
            <a:endParaRPr b="0" lang="en-US" sz="1600" spc="-1" strike="noStrike">
              <a:solidFill>
                <a:srgbClr val="000000"/>
              </a:solidFill>
              <a:latin typeface="Arial"/>
            </a:endParaRPr>
          </a:p>
          <a:p>
            <a:pPr>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2" name="Picture 303" descr=""/>
          <p:cNvPicPr/>
          <p:nvPr/>
        </p:nvPicPr>
        <p:blipFill>
          <a:blip r:embed="rId1"/>
          <a:stretch/>
        </p:blipFill>
        <p:spPr>
          <a:xfrm>
            <a:off x="457200" y="1219320"/>
            <a:ext cx="8229600" cy="496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E076-D953-4858-A6C4-F531BE35D2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PGRR  and NPRR / PRR Status</a:t>
            </a:r>
            <a:endParaRPr b="0" lang="en-US" sz="3200" spc="-1" strike="noStrike">
              <a:solidFill>
                <a:srgbClr val="000000"/>
              </a:solidFill>
              <a:latin typeface="Arial"/>
            </a:endParaRPr>
          </a:p>
        </p:txBody>
      </p:sp>
      <p:sp>
        <p:nvSpPr>
          <p:cNvPr id="195" name="Rectangle 3"/>
          <p:cNvSpPr/>
          <p:nvPr/>
        </p:nvSpPr>
        <p:spPr>
          <a:xfrm>
            <a:off x="380880" y="1295280"/>
            <a:ext cx="8382240" cy="480060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80000"/>
              </a:lnSpc>
              <a:spcBef>
                <a:spcPts val="499"/>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PGRR042 Updating of Weather Sensitivity Assignment, Suspension of Annual Validation for Advanced Meters, Addition of Load Research Sampling Documents, and Removal of Unused TOUS Codes shall have first review after posting by PWG on Dec. 9, 2010.</a:t>
            </a:r>
            <a:endParaRPr b="0" lang="en-US" sz="2000" spc="-1" strike="noStrike">
              <a:solidFill>
                <a:srgbClr val="000000"/>
              </a:solidFill>
              <a:latin typeface="Arial"/>
            </a:endParaRPr>
          </a:p>
          <a:p>
            <a:pPr lvl="1" marL="990720" indent="-533520">
              <a:lnSpc>
                <a:spcPct val="80000"/>
              </a:lnSpc>
              <a:spcBef>
                <a:spcPts val="499"/>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80000"/>
              </a:lnSpc>
              <a:spcBef>
                <a:spcPts val="499"/>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PGRR draft being revised with LPGRR042 as base and shall be reviewed by PWG on December 9, 2010 to build Appendix D language for Distributive Generation (DG) Load Profile Models per NPRR208, Registration and Settlement of Distributed Generation (DG) Less Than One MW (PWG Goal 6 shall be LPGRR043).</a:t>
            </a:r>
            <a:endParaRPr b="0" lang="en-US" sz="2000" spc="-1" strike="noStrike">
              <a:solidFill>
                <a:srgbClr val="000000"/>
              </a:solidFill>
              <a:latin typeface="Arial"/>
            </a:endParaRPr>
          </a:p>
          <a:p>
            <a:pPr lvl="1" marL="990720" indent="-53352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DECEE-A7FB-47C4-8A3A-5FB2E5B731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Text Box 6"/>
          <p:cNvSpPr/>
          <p:nvPr/>
        </p:nvSpPr>
        <p:spPr>
          <a:xfrm>
            <a:off x="533520" y="4572000"/>
            <a:ext cx="8001000" cy="194256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Remaining 2010 meeting dat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 9, 20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alf day WebEx call</a:t>
            </a:r>
            <a:endParaRPr b="0" lang="en-US" sz="24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PWG is planning 2011 meetings on the fourth Wednesday</a:t>
            </a:r>
            <a:endParaRPr b="0" lang="en-US" sz="1600" spc="-1" strike="noStrike">
              <a:solidFill>
                <a:srgbClr val="000000"/>
              </a:solidFill>
              <a:latin typeface="Arial"/>
            </a:endParaRPr>
          </a:p>
        </p:txBody>
      </p:sp>
      <p:pic>
        <p:nvPicPr>
          <p:cNvPr id="199" name="Picture 10" descr=""/>
          <p:cNvPicPr/>
          <p:nvPr/>
        </p:nvPicPr>
        <p:blipFill>
          <a:blip r:embed="rId1"/>
          <a:stretch/>
        </p:blipFill>
        <p:spPr>
          <a:xfrm>
            <a:off x="3276720" y="1371600"/>
            <a:ext cx="5248080" cy="3065400"/>
          </a:xfrm>
          <a:prstGeom prst="rect">
            <a:avLst/>
          </a:prstGeom>
          <a:ln w="9360">
            <a:solidFill>
              <a:srgbClr val="000000"/>
            </a:solidFill>
            <a:miter/>
          </a:ln>
        </p:spPr>
      </p:pic>
      <p:pic>
        <p:nvPicPr>
          <p:cNvPr id="200" name="Picture 11" descr=""/>
          <p:cNvPicPr/>
          <p:nvPr/>
        </p:nvPicPr>
        <p:blipFill>
          <a:blip r:embed="rId2"/>
          <a:stretch/>
        </p:blipFill>
        <p:spPr>
          <a:xfrm>
            <a:off x="533520" y="1295280"/>
            <a:ext cx="241920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10-11-24T19:08:10Z</dcterms:modified>
  <cp:revision>545</cp:revision>
  <dc:subject/>
  <dc:title>PowerPoint Presentation</dc:title>
</cp:coreProperties>
</file>